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5CA-2998-4E7E-A376-92AFA1EA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790-834C-42F8-97EC-5666E83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598-7E7A-4966-8C88-6BB18F81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B37-E765-41D7-8988-B7308295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D93-D530-40C2-ABD0-F5635983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DF1A-F79B-482B-BC12-56AAF8A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8E5-344B-4703-BCA8-F39FA5FB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A9BD-5953-4982-96FA-27F5695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88B-A813-4CBC-B448-2459771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039F-0227-46BA-AA0D-C08E902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275-4C52-41AC-9C2D-C72CCBC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162-FDC3-4EAD-AAA9-0F9F27B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72F7-0483-429B-BA76-8D0C3C3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FCC0-C23C-480F-9BE6-2FE0518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652-C916-4CB6-ABF8-2685D1F0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CB2A-FDA6-4087-9DC9-10487BE0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4A1B-6FBA-4F2E-B3A1-AC50D454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60A-9A09-4AA2-9646-1E37110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F0F-2830-4D01-A4D0-0E4E852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33E-A540-4451-864D-727ABFC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60A-F722-4B0F-A7C3-E331B12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276-E45B-4C02-A724-FE87332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0C8-A168-43F3-9896-BFCEE112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46F-8069-4850-8942-51948F1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1EE0-AC39-4F16-BD2C-2EE69BC1698C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0736-4E39-487C-B3CA-945BCEC6C67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PowerMedia Plu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1: Search for a video you can use in clas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2: Pick a vide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3: Preview the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4: Download the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’s your time to come up and share your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plain why you picked that vide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will you be able to help your teacher with PowerMedia Plu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PowerMedia Plu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my teacher use PowerMedia Plu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 we will be learning about PowerMedia Plus. When we have completed this session you will be able to help your teacher navigate and download videos from the si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teps to using PowerMedia Plus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1: Open up Internet Explorer and type in </a:t>
            </a: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ww.powermediaplus.com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in the address bar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2: Log into the website using your schools username and password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3: Click on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4: Type in a keyword of the video you are trying to find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teps to using PowerMedia Plus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5: Look at the list and select a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6: Click on play to review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7: Click the back button and click download once you like the video you previewed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s your turn to try it. Lets find a video on frac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llow the steps you learned to find the vide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you have a chance to find your own video. Search for a video that could be useful in one of your classes now. If you are learning exponents in math search for exponents. Download it to the desktop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03-01T17:01:49Z</dcterms:modified>
  <cp:revision>2</cp:revision>
  <dc:subject/>
  <dc:title>Workshop Title</dc:title>
</cp:coreProperties>
</file>